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A20-E33A-4DDF-AF76-BAE90000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E37-2E4E-4AA0-BC9C-56338405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2BA-13DE-4B3D-841F-77E5F918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897-8909-40C8-913F-D8121313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5BE-8599-40BD-9AB5-44F5CEFB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027-CA46-4FE6-8D17-30573843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425-52BA-4160-8536-4C2D800E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437-7C82-49C5-9273-28FC156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6BE-D300-4FD9-8CDD-1111662B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C92-E8DD-4E44-931D-8BC7319D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9A2-8D2D-4D83-968F-CFB4D2E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BE2-FC6B-41A8-A8DD-8CC965B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1078-0BBA-40BD-A8CD-EE14CF769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omb.cgil.it/leggi/legge300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lazion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indacal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Times New Roman"/>
              </a:rPr>
              <a:t>DIRIGENTE SCOLASTIC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Times New Roman"/>
              </a:rPr>
              <a:t>UNA  O.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però non è finita qui perché la decisione del giudice è stata appell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00F-3FC6-4162-AB38-2C64D8F4AE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TUDIO  DI  CA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ORSO di una O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 art. 28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. 20.5.1970 N° 3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Statuto dei lavorato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comportamento antisindacale del dirigente scola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696-4E70-4F7A-AAA4-E9190D5CC9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A  LAMENTEL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sto che nessuna attività didattica normale è ricompresa tra i servizi pubblici essenziali, il D.s. ha illegittimamente precettato per l’intera giornata del 24.10.2003 (nella quale era stato indetto uno sciopero) il sig. Rossi, coll.scol. in un plesso di scuola elementare a tempo pieno con refezione, con ciò violando l’allegato al C.C.N.L. 1998/2001  “Attuazione della L. 146/1990”, nonché l’Accordo integrativo nazionale sottoscritto l’ 8.10.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717-9D09-4805-9B0C-7462EB9067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A  DIFESA  DEL  D.s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 non ho precettato nessuno ma solo emesso un ordine di servizio per garantire lo svolgimento dell’attività didattica normale di una scuola elementare, che è considerata servizio pubblico essenziale ai sensi dell’art. 1, comma 2, lett.d) della L. 12.6.1990 N° 146, come integrata e modificata dalla L. 11.4.2000 N° 8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D10-E316-4AA8-8C84-44A8C55F3F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  FATT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l dibattimento è emerso 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 20.10.2003 il D.s. chiede a tutti i dipendenti una dichiarazione (peraltro volontaria) circa l’intenzione di aderire o meno allo sciopero, informando che in base alle risposte avrebbe determinato il contingente ed i nominativi del personale A.T.A. che sarebbe stato tenuto a prestare serviz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D70-CD8F-4D45-B0A8-6C45F266E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8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i tre coll.scol. assegnati al plesso in questione, uno risponde di voler aderire allo sciopero, uno di non voler aderire, il terzo – per l’appunto il sig. Rossi – non esprime le sue intenzion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 data 23.10.2003 il D.s. indirizza al sig. Rossi un ordine di servizio con il quale lo assegna al normale turno pomeridiano dell’indomani in modo da consenti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) il normale svolgimento dell’attività didattic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) a chi aveva da subito dichiarato di voler aderire allo sciopero di poterlo fa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366-0792-4E99-A0BE-06C0215CDC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8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evuto l’ordine di servizio, il sig. Rossi chiede al D.s. (sempre in data 23.10.2003) di essere sostituito ove possibile in quanto intende aderire allo sciop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 D.s. non può aderire alla richiesta in quanto non dispone di altro personale (nemmeno negli altri plessi) ed il servizio deve essere garanti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giorno 24.10.2003 il sig. Rossi effettua il normale servizio pomerid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57E-8D45-4E52-A531-9ECA241E26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l ragionamento del giud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art. 2 della L. 12.6.1990 N° 146 demanda alla contrattazione collettiva l’individuazione delle prestazioni indispensabil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allegato al C.C.N.L. 1998/2001 ed il successivo Accordo dd. 8.10.1999 non prevedono che l’attività didattica ordinaria di una scuola elementare rientri tra le prestazioni indispensabi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CCD-DD3C-45B9-A3FB-7BF72BA0BB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A DECISIONE DEL GIUD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 l’ordine di servizio al sig. Rossi il D.s. ha posto in essere un comportamento antisindacale eppertanto il ricorso va accol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D.V. Udine-5.3.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717-B225-4B0E-AF54-42B36767B8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4:17:24Z</dcterms:created>
  <dc:creator>direzione-friuliveneziagiulia</dc:creator>
  <dc:description/>
  <dc:language>en-US</dc:language>
  <cp:lastModifiedBy>bullo</cp:lastModifiedBy>
  <dcterms:modified xsi:type="dcterms:W3CDTF">2004-05-07T09:52:16Z</dcterms:modified>
  <cp:revision>35</cp:revision>
  <dc:subject/>
  <dc:title>Presentazione di PowerPoint</dc:title>
</cp:coreProperties>
</file>